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E944D-6DF1-4970-9563-E08CFB9F1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55AC5-0F5B-4108-B634-0159C9D8B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A6E76-2FBD-4B61-9E6A-A0EF665E0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ECB38-9746-40EA-9ECC-5B340C3EC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AB7EC-870F-4D0B-91B3-075DD8080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6B984-0C4C-4331-9332-1E3B7A49C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3B84B-372F-4259-8119-EB61B2123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04FCB-64AA-4049-9527-55ED37986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83563-9827-43D9-BC12-0C7879A09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0BB9B-1EBB-4049-8BD8-0AEDDB22E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2DAA2-8702-4CA8-9F9C-6FADDD9C2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AC605-7953-4E19-84DE-504775318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B79CB-C7DD-417D-8705-7399CF25F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0179B-82A4-4AC4-B53E-8E912E82B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FECBA-8391-4C91-B204-D3DE2CA6E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CE342-E6BA-4FC7-BB82-ADB1D3F1F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2DE69-06B0-493B-8E8F-2AF13C9D8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CA75B-C59B-4A45-B227-BCDD13C19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8FB55-BD95-4E7D-8F14-0D55EB261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A1BF0-CF73-412F-86F8-87AB13AF3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F90F0-D027-4AAD-B469-B299B3529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B8A85-2CBE-4C45-A3C5-C62EBA72E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4535B-9CC2-4594-85B3-FBC2A0F7F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01257-FB1D-4938-8C2E-B9A9066D3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6D52D-4485-4223-B738-031A9349BAF8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prstGeom prst="pie">
              <a:avLst/>
            </a:pr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prstGeom prst="pie">
              <a:avLst/>
            </a:pr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974C7-9719-428D-8BB6-C4FC849BF908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42640" y="235728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Palatino Linotype"/>
              </a:rPr>
              <a:t>Дополнительно об отражении света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8" name="Object 4"/>
          <p:cNvGraphicFramePr/>
          <p:nvPr/>
        </p:nvGraphicFramePr>
        <p:xfrm>
          <a:off x="0" y="223920"/>
          <a:ext cx="9144000" cy="642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23920"/>
                    <a:ext cx="9144000" cy="642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179280" y="404280"/>
            <a:ext cx="896472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66"/>
                </a:solidFill>
                <a:latin typeface="Monotype Corsiva"/>
              </a:rPr>
              <a:t>ЛЮБОЗНАТЕЛЬНОСТЬ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66"/>
                </a:solidFill>
                <a:latin typeface="Monotype Corsiva"/>
              </a:rPr>
              <a:t> </a:t>
            </a:r>
            <a:r>
              <a:rPr b="1" lang="ru-RU" sz="6000" spc="-1" strike="noStrike">
                <a:solidFill>
                  <a:srgbClr val="ffff66"/>
                </a:solidFill>
                <a:latin typeface="Monotype Corsiva"/>
              </a:rPr>
              <a:t>СОЗДАЕТ 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66"/>
                </a:solidFill>
                <a:latin typeface="Monotype Corsiva"/>
              </a:rPr>
              <a:t>УЧЕНЫХ 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66"/>
                </a:solidFill>
                <a:latin typeface="Monotype Corsiva"/>
              </a:rPr>
              <a:t> </a:t>
            </a:r>
            <a:r>
              <a:rPr b="1" lang="ru-RU" sz="6000" spc="-1" strike="noStrike">
                <a:solidFill>
                  <a:srgbClr val="ffff66"/>
                </a:solidFill>
                <a:latin typeface="Monotype Corsiva"/>
              </a:rPr>
              <a:t>И 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66"/>
                </a:solidFill>
                <a:latin typeface="Monotype Corsiva"/>
              </a:rPr>
              <a:t> </a:t>
            </a:r>
            <a:r>
              <a:rPr b="1" lang="ru-RU" sz="6000" spc="-1" strike="noStrike">
                <a:solidFill>
                  <a:srgbClr val="ffff66"/>
                </a:solidFill>
                <a:latin typeface="Monotype Corsiva"/>
              </a:rPr>
              <a:t>ПОЭТОВ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trips dir="rd"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1285920" y="356760"/>
            <a:ext cx="714384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ccff"/>
                </a:solidFill>
                <a:latin typeface="Bookman Old Style"/>
              </a:rPr>
              <a:t>Чудный дар природы вечной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ccff"/>
                </a:solidFill>
                <a:latin typeface="Bookman Old Style"/>
              </a:rPr>
              <a:t>Дар бесценный и святой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ccff"/>
                </a:solidFill>
                <a:latin typeface="Bookman Old Style"/>
              </a:rPr>
              <a:t>В нем источник бесконечны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ccff"/>
                </a:solidFill>
                <a:latin typeface="Bookman Old Style"/>
              </a:rPr>
              <a:t>Наслажденье красотой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ccff"/>
                </a:solidFill>
                <a:latin typeface="Bookman Old Style"/>
              </a:rPr>
              <a:t>Небо, солнце, звезд сиянье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ccff"/>
                </a:solidFill>
                <a:latin typeface="Bookman Old Style"/>
              </a:rPr>
              <a:t>Море  в блеске голубом-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ccff"/>
                </a:solidFill>
                <a:latin typeface="Bookman Old Style"/>
              </a:rPr>
              <a:t>Всю картину мироздань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ccff"/>
                </a:solidFill>
                <a:latin typeface="Bookman Old Style"/>
              </a:rPr>
              <a:t>Мы лишь в свете познаем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4" descr=""/>
          <p:cNvPicPr/>
          <p:nvPr/>
        </p:nvPicPr>
        <p:blipFill>
          <a:blip r:embed="rId1"/>
          <a:stretch/>
        </p:blipFill>
        <p:spPr>
          <a:xfrm>
            <a:off x="0" y="-162000"/>
            <a:ext cx="9144000" cy="701352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5"/>
          <p:cNvSpPr/>
          <p:nvPr/>
        </p:nvSpPr>
        <p:spPr>
          <a:xfrm>
            <a:off x="4648320" y="1030320"/>
            <a:ext cx="380880" cy="457200"/>
          </a:xfrm>
          <a:prstGeom prst="rect">
            <a:avLst/>
          </a:prstGeom>
          <a:solidFill>
            <a:srgbClr val="1111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0" y="0"/>
          <a:ext cx="208080" cy="668808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668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5" name="Rectangle 17"/>
          <p:cNvSpPr/>
          <p:nvPr/>
        </p:nvSpPr>
        <p:spPr>
          <a:xfrm>
            <a:off x="1800" y="668772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77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" dur="770" fill="hold"/>
                                        <p:tgtEl>
                                          <p:spTgt spid="11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9" dur="77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1" dur="77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6" name="Object 3"/>
          <p:cNvGraphicFramePr/>
          <p:nvPr/>
        </p:nvGraphicFramePr>
        <p:xfrm>
          <a:off x="-252360" y="-766800"/>
          <a:ext cx="9396360" cy="762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252360" y="-766800"/>
                    <a:ext cx="9396360" cy="762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4" descr="lunnajadorojka_1024"/>
          <p:cNvPicPr/>
          <p:nvPr/>
        </p:nvPicPr>
        <p:blipFill>
          <a:blip r:embed="rId1"/>
          <a:stretch/>
        </p:blipFill>
        <p:spPr>
          <a:xfrm>
            <a:off x="0" y="146160"/>
            <a:ext cx="9396360" cy="671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 u="sng">
                <a:solidFill>
                  <a:srgbClr val="ffff00"/>
                </a:solidFill>
                <a:uFillTx/>
                <a:latin typeface="Palatino Linotype"/>
              </a:rPr>
              <a:t>ЗАКОНЫ ОТРАЖЕНИЯ</a:t>
            </a:r>
            <a:endParaRPr b="1" lang="en-US" sz="5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42960" y="2420640"/>
            <a:ext cx="8043840" cy="35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-36180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Bookman Old Style"/>
              </a:rPr>
              <a:t>Угол падения равен углу Отраже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61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61800" indent="-36180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Bookman Old Style"/>
              </a:rPr>
              <a:t>Падающий луч, перпендикуляр востановленный  из точки падения и отраженный луч лежат в одной плоскост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77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6" dur="770" fill="hold"/>
                                        <p:tgtEl>
                                          <p:spTgt spid="11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8" dur="77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0" dur="77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 u="sng">
                <a:solidFill>
                  <a:srgbClr val="ffff00"/>
                </a:solidFill>
                <a:uFillTx/>
                <a:latin typeface="Palatino Linotype"/>
              </a:rPr>
              <a:t>ВИДЫ</a:t>
            </a:r>
            <a:br>
              <a:rPr sz="5400"/>
            </a:br>
            <a:r>
              <a:rPr b="0" lang="ru-RU" sz="5400" spc="-1" strike="noStrike" u="sng">
                <a:solidFill>
                  <a:srgbClr val="ffff00"/>
                </a:solidFill>
                <a:uFillTx/>
                <a:latin typeface="Palatino Linotype"/>
              </a:rPr>
              <a:t> ОТРАЖЕНИЯ</a:t>
            </a:r>
            <a:endParaRPr b="1" lang="en-US" sz="5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66320" y="2712600"/>
            <a:ext cx="7543800" cy="33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ДИФФУЗНОЕ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11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ЗЕРКАЛЬНОЕ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77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5" dur="770" fill="hold"/>
                                        <p:tgtEl>
                                          <p:spTgt spid="12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7" dur="77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9" dur="77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5" dur="2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0" dur="20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 u="sng">
                <a:solidFill>
                  <a:srgbClr val="ffff00"/>
                </a:solidFill>
                <a:uFillTx/>
                <a:latin typeface="Trebuchet MS"/>
              </a:rPr>
              <a:t>ИЗОБРАЖЕНИЕ В </a:t>
            </a:r>
            <a:br>
              <a:rPr sz="4400"/>
            </a:br>
            <a:r>
              <a:rPr b="0" i="1" lang="ru-RU" sz="4400" spc="-1" strike="noStrike" u="sng">
                <a:solidFill>
                  <a:srgbClr val="ffff00"/>
                </a:solidFill>
                <a:uFillTx/>
                <a:latin typeface="Trebuchet MS"/>
              </a:rPr>
              <a:t>ПЛОСКОМ ЗЕРКАЛЕ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4" name="Rectangle 10"/>
          <p:cNvSpPr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 Black"/>
              </a:rPr>
              <a:t>МНИМО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fc00"/>
                </a:solidFill>
                <a:latin typeface="Arial Black"/>
              </a:rPr>
              <a:t>ПРЯМО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 Black"/>
              </a:rPr>
              <a:t>РАВНОЕ ПРЕДМЕТУ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 Black"/>
              </a:rPr>
              <a:t>РАСПОЛОЖЕНО СИММЕТРИЧНО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 Black"/>
              </a:rPr>
              <a:t>ПРАВОЕ </a:t>
            </a:r>
            <a:r>
              <a:rPr b="1" lang="ru-RU" sz="3200" spc="-1" strike="noStrike">
                <a:solidFill>
                  <a:srgbClr val="ffffff"/>
                </a:solidFill>
                <a:latin typeface="Arial Black"/>
              </a:rPr>
              <a:t>            </a:t>
            </a:r>
            <a:r>
              <a:rPr b="1" lang="ru-RU" sz="3200" spc="-1" strike="noStrike">
                <a:solidFill>
                  <a:srgbClr val="ffff00"/>
                </a:solidFill>
                <a:latin typeface="Arial Black"/>
              </a:rPr>
              <a:t>ЛЕВО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Line 13"/>
          <p:cNvSpPr/>
          <p:nvPr/>
        </p:nvSpPr>
        <p:spPr>
          <a:xfrm>
            <a:off x="2843280" y="4581360"/>
            <a:ext cx="136836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77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8" dur="770" fill="hold"/>
                                        <p:tgtEl>
                                          <p:spTgt spid="12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0" dur="77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2" dur="77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77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9" dur="77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1" dur="77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3" dur="77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77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0" dur="77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2" dur="77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4" dur="77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77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1" dur="77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3" dur="77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5" dur="77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77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2" dur="77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4" dur="77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6" dur="77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77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3" dur="77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5" dur="77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7" dur="77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000" spc="-1" strike="noStrike" u="sng">
                <a:solidFill>
                  <a:srgbClr val="99ff99"/>
                </a:solidFill>
                <a:uFillTx/>
                <a:latin typeface="Bookman Old Style"/>
              </a:rPr>
              <a:t>ПРИМЕНЕНИЕ</a:t>
            </a:r>
            <a:endParaRPr b="1" lang="en-US" sz="6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7c80"/>
                </a:solidFill>
                <a:latin typeface="Tahoma"/>
              </a:rPr>
              <a:t>ВОЕННАЯ ТЕХНИКА (ПЕРЕСКОП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ccff"/>
                </a:solidFill>
                <a:latin typeface="Tahoma"/>
              </a:rPr>
              <a:t>ЗЕРКАЛЬНЫЕ ШКАЛЫ В ГАЛЬВАНОМЕТРАХ И БАРОМЕТРАХ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ff33"/>
                </a:solidFill>
                <a:latin typeface="Tahoma"/>
              </a:rPr>
              <a:t>ТРАНСПОР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ЦИРК (ГОВОРЯЩАЯ ГОЛОВА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0T11:42:31Z</dcterms:created>
  <dc:creator>Администратор</dc:creator>
  <dc:description/>
  <dc:language>en-US</dc:language>
  <cp:lastModifiedBy>Шандер</cp:lastModifiedBy>
  <dcterms:modified xsi:type="dcterms:W3CDTF">2010-06-07T13:04:58Z</dcterms:modified>
  <cp:revision>10</cp:revision>
  <dc:subject/>
  <dc:title>Слайд 1</dc:title>
</cp:coreProperties>
</file>